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4DBA-1001-452D-9D13-215BDA31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9F2E-64AC-42CB-BC9E-950B7B92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F79E-659A-4912-8759-8AF85EC6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C793-8234-45D7-8451-E71CCDFA3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E964-3DD0-4999-9542-E6FB961E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F8E6-C0D5-4337-84D9-20B5C67E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D13C-7DED-42F5-9D41-F7C6D180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A322-D192-4416-9CC0-23A78879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2C21-17A5-4089-A10A-062DC103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7772-DF4E-43E7-A55E-B0B71809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7894-4B0B-4A4C-8265-6ED39FA1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D0E4-D0E6-478E-9CCA-1F590A58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8926-F97B-48F7-9142-ECAF13F8E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620640"/>
            <a:ext cx="158436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Moviment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migrat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35280" y="141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1844640"/>
            <a:ext cx="3095640" cy="1366920"/>
          </a:xfrm>
          <a:prstGeom prst="rect">
            <a:avLst/>
          </a:prstGeom>
          <a:solidFill>
            <a:srgbClr val="14e236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chiama emigrazi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do le persone di un pa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ne vanno all’ este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vere e cerc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vo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19280" y="3284640"/>
            <a:ext cx="0" cy="649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05360"/>
            <a:ext cx="3097080" cy="1511280"/>
          </a:xfrm>
          <a:prstGeom prst="rect">
            <a:avLst/>
          </a:prstGeom>
          <a:solidFill>
            <a:srgbClr val="14e236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i italiani sono stati emigra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olti paesi e,anche 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o di una volta , lo son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e ogg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43280" y="1052640"/>
            <a:ext cx="7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64000" y="333360"/>
            <a:ext cx="2449440" cy="1079640"/>
          </a:xfrm>
          <a:prstGeom prst="rect">
            <a:avLst/>
          </a:prstGeom>
          <a:solidFill>
            <a:srgbClr val="ff99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persone vanno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vere in un altro pa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6084720" y="475920"/>
            <a:ext cx="1008360" cy="36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907920"/>
            <a:ext cx="1008360" cy="576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64360" y="189000"/>
            <a:ext cx="1655640" cy="720720"/>
          </a:xfrm>
          <a:prstGeom prst="rect">
            <a:avLst/>
          </a:prstGeom>
          <a:solidFill>
            <a:srgbClr val="ff99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vare un lavo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4360" y="1268280"/>
            <a:ext cx="1224000" cy="1511280"/>
          </a:xfrm>
          <a:prstGeom prst="rect">
            <a:avLst/>
          </a:prstGeom>
          <a:solidFill>
            <a:srgbClr val="ff99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uggi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a situaz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ffici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esempi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guerre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43280" y="1268280"/>
            <a:ext cx="1368360" cy="79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24360" y="2421000"/>
            <a:ext cx="2881080" cy="1152360"/>
          </a:xfrm>
          <a:prstGeom prst="rect">
            <a:avLst/>
          </a:prstGeom>
          <a:solidFill>
            <a:srgbClr val="cc0099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chiama immigrazi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do in un paese arrivan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nieri a viv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cercare lavo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08360" y="4365720"/>
            <a:ext cx="719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00720" y="4292640"/>
            <a:ext cx="1726920" cy="504720"/>
          </a:xfrm>
          <a:prstGeom prst="rect">
            <a:avLst/>
          </a:prstGeom>
          <a:solidFill>
            <a:srgbClr val="14e236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Mete princip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995280" y="5013360"/>
            <a:ext cx="647640" cy="36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48360" y="5013360"/>
            <a:ext cx="0" cy="503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5013360"/>
            <a:ext cx="288720" cy="36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80000" y="5516640"/>
            <a:ext cx="936360" cy="576360"/>
          </a:xfrm>
          <a:prstGeom prst="rect">
            <a:avLst/>
          </a:prstGeom>
          <a:solidFill>
            <a:srgbClr val="14e236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Pae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euro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88000" y="5516640"/>
            <a:ext cx="720720" cy="288720"/>
          </a:xfrm>
          <a:prstGeom prst="rect">
            <a:avLst/>
          </a:prstGeom>
          <a:solidFill>
            <a:srgbClr val="14e236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U.S.A.,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5589720"/>
            <a:ext cx="1079640" cy="288720"/>
          </a:xfrm>
          <a:prstGeom prst="rect">
            <a:avLst/>
          </a:prstGeom>
          <a:solidFill>
            <a:srgbClr val="14e236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3789360"/>
            <a:ext cx="431640" cy="36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51640" y="4221000"/>
            <a:ext cx="1008000" cy="1440000"/>
          </a:xfrm>
          <a:prstGeom prst="rect">
            <a:avLst/>
          </a:prstGeom>
          <a:solidFill>
            <a:srgbClr val="cc0099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In Ital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Arriv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Immigrat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Soprattut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7020000" y="5661000"/>
            <a:ext cx="288720" cy="36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44000" y="5734080"/>
            <a:ext cx="0" cy="431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04000" y="6165720"/>
            <a:ext cx="936720" cy="358920"/>
          </a:xfrm>
          <a:prstGeom prst="rect">
            <a:avLst/>
          </a:prstGeom>
          <a:solidFill>
            <a:srgbClr val="cc0099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Est Euro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12000" y="6093000"/>
            <a:ext cx="1332000" cy="576000"/>
          </a:xfrm>
          <a:prstGeom prst="rect">
            <a:avLst/>
          </a:prstGeom>
          <a:solidFill>
            <a:srgbClr val="cc0099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Africa/Alb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09:50:34Z</dcterms:created>
  <dc:creator>informatica20</dc:creator>
  <dc:description/>
  <dc:language>en-US</dc:language>
  <cp:lastModifiedBy>informatica20</cp:lastModifiedBy>
  <dcterms:modified xsi:type="dcterms:W3CDTF">2016-12-05T10:34:53Z</dcterms:modified>
  <cp:revision>4</cp:revision>
  <dc:subject/>
  <dc:title>Diapositiva 1</dc:title>
</cp:coreProperties>
</file>